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1B4-A251-4B3C-A8EE-223E4905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94F-803E-4BB2-A273-1CC371BA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F11-7079-479D-8DF2-F07F0368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4D3-43BE-41BE-BA52-B29BDE6C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9EC-FA50-44BD-87B7-2A71C6D1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577-1BB3-4447-8356-1E341C9C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A3A-72FA-4C6F-9F38-FD38C842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847-E478-438F-8578-549811F5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3F6-B397-4BE4-95CC-03BA6E1A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318-2436-4D51-A55B-DD98723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89A-3046-45A2-8FFF-AF7B022F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095-44AA-4F6E-BB7A-DF69CEEE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26DE-F1B7-4311-B2CA-59A6896E2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05800" y="6095880"/>
            <a:ext cx="304920" cy="27468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605800" y="4876920"/>
            <a:ext cx="30492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05800" y="4121280"/>
            <a:ext cx="304920" cy="69192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05800" y="609480"/>
            <a:ext cx="304920" cy="34290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4876920"/>
            <a:ext cx="693432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4121280"/>
            <a:ext cx="6934320" cy="68580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609480"/>
            <a:ext cx="6934320" cy="34290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9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 @  Plant and Animal Genome X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043480" y="21016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rot="5400000">
            <a:off x="8373240" y="428616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595440"/>
            <a:ext cx="7081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Resources at the EBI: Ensembl (including BioM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8:00-9:00am, California Room, Bert Overdu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eneric Genome Browser: A Hands on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1:30-3:40pm, California Room, Scott C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Gramene (including CMa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esday, 3:50-6:00pm, California Room, Ken Youens-Cla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02960" y="4084560"/>
            <a:ext cx="57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a Comprehensive Genomics, Genetics &amp; Breeding DB for Caca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3:45-4:00pm, Pacific Salon 6 &amp; 7, Ping Zhe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to Use MetaCyc and the Pathway Tools Software in Local M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4:30-4:50pm, California Room, Lukas Mue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8247600" y="5263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4876920"/>
            <a:ext cx="7021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798: CottonDB: An Integrated Repository Resource for Cot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00: Genome Annotation and Report System: An Integrated System for Structural &amp; Functional Genome Anno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05: GnpIS, A Portal andInformation System to Bridge Genetics and Genomics Pland &amp; Fungi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14: Informatics for Turbo-charged Comparative Biology: Highlights from the GMOD Evo Hackat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18: A Complete Community Annotation System using GMOD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28: GBrowse 2.2: Fast, Friendly, and Soci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88: GDR (Genome Database f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osacea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Building Resources for Translational Research in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osace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6437160"/>
            <a:ext cx="129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5800" y="601560"/>
            <a:ext cx="13406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-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ze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CCA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6477120"/>
            <a:ext cx="3429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095880"/>
            <a:ext cx="6934320" cy="27468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8680" y="6093000"/>
            <a:ext cx="634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nd at least 8 other talks and 9 more posters by GMOD users (see http://gmod.org/wiki/PAG_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02200" y="6033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5977080"/>
            <a:ext cx="990720" cy="72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0200" y="1752480"/>
            <a:ext cx="5638680" cy="2286000"/>
          </a:xfrm>
          <a:prstGeom prst="rect">
            <a:avLst/>
          </a:prstGeom>
          <a:solidFill>
            <a:srgbClr val="9fd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1752480"/>
            <a:ext cx="1295640" cy="2286000"/>
          </a:xfrm>
          <a:prstGeom prst="rect">
            <a:avLst/>
          </a:prstGeom>
          <a:solidFill>
            <a:srgbClr val="9fd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6280" y="3429000"/>
            <a:ext cx="1105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:20 - 5: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cific Salon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1752480"/>
            <a:ext cx="56386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KER: An easy to use genome annotation pipe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0:30-11:30am, Pacific Salon 3, Carson Ho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alaxy: Analyze, Visualize, 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1:30am-12:30pm, Pacific Salon 3, Dan Blankenbe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Browse: A Next Generation Genome Brow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:30-2:30pm, Pacific Salon 3, Mitch Skinn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pal: A Construction Toolkit for Online Genomic Databa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2:30-3:30pm, Pacific Salon 3, Stephen Fick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views: A Configurable Interface for GMOD Databases &amp;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3:45-4:00pm, Pacific Salon 3, Michael Cau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Browse_syn: The Generic Synteny Brow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4:00-5:00pm, Pacific Salon 3, Robert Bue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7000" y="1793880"/>
            <a:ext cx="1137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o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ual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10-12-27T05:38:31Z</cp:lastPrinted>
  <dcterms:modified xsi:type="dcterms:W3CDTF">2011-01-04T20:58:57Z</dcterms:modified>
  <cp:revision>46</cp:revision>
  <dc:subject/>
  <dc:title>PowerPoint Presentation</dc:title>
</cp:coreProperties>
</file>